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02B-FE82-4DE7-94B1-378B47BF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533-5DBA-4130-A221-578410A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D99-C435-4EB9-BF7F-151E8731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41D-C46A-4383-BEE6-F1D3596E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A23-272D-4FD8-B6BB-0D834C1B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F6DB-1F95-40F0-9197-AEE0066F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EC96-4BCE-473D-A875-89E7C613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7D7-8A0D-4703-AFE2-424CA796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1BA-1DEF-44E5-B9F4-4216FC30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5F3D-5E41-425C-84EA-2689010C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1DD-02A6-464B-AE2C-644D0547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3C8E-5009-47A9-85B7-8B51906A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4A57-AFEA-4EC4-BDA4-6414003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A1A5-E077-4D8D-A651-F0720280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D0FF-EB37-4F5E-89B6-AEFA431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835C-56B1-483A-A635-A78F3098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6119-B46B-4B1C-8769-6412ED22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906-5775-41D3-AE76-AF51FCB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7BA-B40B-48DB-A83F-ABC18C16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FD6-DB1B-4DE4-B4BD-715F505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EFB-5DE1-497F-9AC3-E480C82F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DF2-42FA-43F8-AD33-DB9EC4B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A12-C56B-4382-9886-6C7F640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BF8-DB91-461D-B95A-414B432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F5DF-EACB-4B2A-900B-08BB8F2896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45F0-26D2-4400-BDA3-17A261B99D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.do/imgres?imgurl=http://1.bp.blogspot.com/_4b8aVmnTMEg/TOci0La7p6I/AAAAAAAAJ-Y/KSBisjhSNMA/s1600/A%2BHIPOLITO.jpg&amp;imgrefurl=http://mitamborildigital.blogspot.com/2010_11_19_archive.html&amp;usg=__QP-IxjP0mfWvVFxAm2LBi6P8_Do=&amp;h=249&amp;w=194&amp;sz=19&amp;hl=es&amp;start=5&amp;zoom=1&amp;itbs=1&amp;tbnid=XGwYk6oPUZe-ZM:&amp;tbnh=111&amp;tbnw=86&amp;prev=/images%3Fq%3Dhipolito%2Bmejia%26hl%3Des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.do/imgres?imgurl=http://www.esacademic.com/pictures/eswiki/72/Hipolito_mejia.jpg&amp;imgrefurl=http://www.esacademic.com/dic.nsf/eswiki/386969&amp;usg=__Oap4lGFUfcAYGeSGKVTOx_6xspI=&amp;h=1316&amp;w=900&amp;sz=244&amp;hl=es&amp;start=5&amp;zoom=1&amp;itbs=1&amp;tbnid=u-FXqy-2zjwMwM:&amp;tbnh=150&amp;tbnw=103&amp;prev=/images%3Fq%3Dhipolito%2Bmejia%2Bjuramentado%2Bcomo%2Bpresidentes%26hl%3Des%26sa%3DG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557360"/>
            <a:ext cx="7993080" cy="4465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Liceo Francisco del Rosario Sánchez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263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70828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Yadira Ab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Gelsylandy Arisme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371628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Asig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Historia</a:t>
            </a: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458136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93092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El gobierno de Hipólito Mej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Nuevas secretari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ron creadas las secretari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Medio Ambiente y recursos naturales: responsables esta de coordinar las políticas de protección al medio ambiente y los recursos natural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Secretaria de cultur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 hizo responsable de construir la política cultural del paí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cretaria de la juventud: esta conducía programas y políticas dirigidos hacia la juventud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nergía eléctric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déficit de energía se mantuvo. No obstante. El gobierno exigía la paga de grandes sumas de dineros a las empresa generadora de energía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risis bancari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el 2003 la Republica Dominicana fue afectada por la crisis de tres bancos esto fuer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aninter.: esto trajo como consecuencia la perdida de miles de millones de p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ancredito: el cual tuvo en perdida un costo superior a veintitrés mil millones  de pesos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Mercantil: este fracaso a contado hasta el momento 6.500 millones de peso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Protesta social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diferentes fechas durantes los cuatro años del gobierno perredeísta se produjeron protesta sociales, demandado que el gobierno cambiara su política económic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  huelga del 11 Noviemb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 todas la protesta esta fue la más agresiva la cual arrojo siete muerto, decena de heridos, y cientos de apres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ntó con el apoyo de los grupos sindicales, la iglesia, organizaciones populares estudiantiles y choferile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Las crisis de los partidos politico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os tres grandes partidos mayoritarios enfrentaban grandes crisis pues sus lideres principales habían muerto y no lograban conciliar entre el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PRD se encontraba ante una división inminente pues Hipólito buscaba reelegirse y Hatuey de Camps no estaba de acuerdo. Lo que trajo como consecuencia la división del PRD y la creación del partido (PRSC). Comandado por Hatuey Camps.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elecciones del 200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A pesar de las fuerte imposiciones en favor de la reelección Hipólito Mejía  logro modificar la constitución, introduciendo la siguientes modificación en el articulo 49 de la misma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000000"/>
                </a:solidFill>
                <a:latin typeface="Verdana"/>
              </a:rPr>
              <a:t>Gobierno de  Hipólito Mejí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3428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Verdana"/>
              </a:rPr>
              <a:t>Este se inicia en el año 2000 con una victoria arroyante de 1,432.548 votos frente 785,526 voto que obtuvo el PLD con Danilo Medina a la cabez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91628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consecuencia de las elecciones 2004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16 de mayo del 2004 fueron a las elecciones p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RD : Hipólito Mejía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LD:  Leonel Fernández </a:t>
            </a:r>
            <a:br>
              <a:rPr sz="3000"/>
            </a:b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RSC: Eduardo Estrel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eleccio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Hipólito mejía obtuvo una derrota abrumante por el candidato del PLD Leonel Fernández Actuar presidente de la republica por dos periodos presiden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Procesos  de su manda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17760" y="1697040"/>
            <a:ext cx="4240080" cy="4240080"/>
            <a:chOff x="2417760" y="1697040"/>
            <a:chExt cx="4240080" cy="4240080"/>
          </a:xfrm>
        </p:grpSpPr>
        <p:sp>
          <p:nvSpPr>
            <p:cNvPr id="98" name="_s3096"/>
            <p:cNvSpPr/>
            <p:nvPr/>
          </p:nvSpPr>
          <p:spPr>
            <a:xfrm flipH="1" flipV="1">
              <a:off x="3784320" y="3065400"/>
              <a:ext cx="37620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095"/>
            <p:cNvSpPr/>
            <p:nvPr/>
          </p:nvSpPr>
          <p:spPr>
            <a:xfrm>
              <a:off x="2882880" y="2163600"/>
              <a:ext cx="1058760" cy="10591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eleccion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Del 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94"/>
            <p:cNvSpPr/>
            <p:nvPr/>
          </p:nvSpPr>
          <p:spPr>
            <a:xfrm flipH="1">
              <a:off x="3473280" y="381636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093"/>
            <p:cNvSpPr/>
            <p:nvPr/>
          </p:nvSpPr>
          <p:spPr>
            <a:xfrm>
              <a:off x="2417760" y="328788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crisis 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os parti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olític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092"/>
            <p:cNvSpPr/>
            <p:nvPr/>
          </p:nvSpPr>
          <p:spPr>
            <a:xfrm flipH="1">
              <a:off x="3784320" y="4191120"/>
              <a:ext cx="3776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3091"/>
            <p:cNvSpPr/>
            <p:nvPr/>
          </p:nvSpPr>
          <p:spPr>
            <a:xfrm>
              <a:off x="2882880" y="441180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rotes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90"/>
            <p:cNvSpPr/>
            <p:nvPr/>
          </p:nvSpPr>
          <p:spPr>
            <a:xfrm>
              <a:off x="4535640" y="434484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089"/>
            <p:cNvSpPr/>
            <p:nvPr/>
          </p:nvSpPr>
          <p:spPr>
            <a:xfrm>
              <a:off x="4006800" y="487836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banc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88"/>
            <p:cNvSpPr/>
            <p:nvPr/>
          </p:nvSpPr>
          <p:spPr>
            <a:xfrm>
              <a:off x="4910040" y="4189320"/>
              <a:ext cx="37620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87"/>
            <p:cNvSpPr/>
            <p:nvPr/>
          </p:nvSpPr>
          <p:spPr>
            <a:xfrm>
              <a:off x="5132520" y="441324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léct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6"/>
            <p:cNvSpPr/>
            <p:nvPr/>
          </p:nvSpPr>
          <p:spPr>
            <a:xfrm>
              <a:off x="5064120" y="3816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85"/>
            <p:cNvSpPr/>
            <p:nvPr/>
          </p:nvSpPr>
          <p:spPr>
            <a:xfrm>
              <a:off x="5599080" y="328788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Nuev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ecr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84"/>
            <p:cNvSpPr/>
            <p:nvPr/>
          </p:nvSpPr>
          <p:spPr>
            <a:xfrm flipV="1">
              <a:off x="4908600" y="3065400"/>
              <a:ext cx="37764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083"/>
            <p:cNvSpPr/>
            <p:nvPr/>
          </p:nvSpPr>
          <p:spPr>
            <a:xfrm>
              <a:off x="5132520" y="216216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Medid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conóm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82"/>
            <p:cNvSpPr/>
            <p:nvPr/>
          </p:nvSpPr>
          <p:spPr>
            <a:xfrm flipV="1">
              <a:off x="4535640" y="27543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1"/>
            <p:cNvSpPr/>
            <p:nvPr/>
          </p:nvSpPr>
          <p:spPr>
            <a:xfrm>
              <a:off x="4006800" y="169704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lec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Del 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0"/>
            <p:cNvSpPr/>
            <p:nvPr/>
          </p:nvSpPr>
          <p:spPr>
            <a:xfrm>
              <a:off x="4006800" y="328932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Hipóli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Mej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residen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ecciones del 20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l PRD en año 2000  presento a la candidatura de la presidencia al ingeniero Hipólito Mejía y a la doctora Milagros Ortiz Bos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Aunque no sacaron el 50% mas uno que establecía la constitución el PLD no encontró los aliados necesarios y no tuvo otra opción que reconocer la victoria del PRD.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medidas económic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sde que  Hipólito Mejía asumió el poder implanto una seri de medidas económicas a favor de gobiern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cuales no se diferenciaban mucho de la del PL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medid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establecimiento de un anticipo de 1.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obre las ventajas brut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n impuesto electivo a las bebidas y a los cigarrill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aumento del ITBIS de 8 a un 12 % y un 6% a la publicidad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lotación de los combustib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aumento de la electr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Amplio los beneficios en educació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mo aumento del desayuno escol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ecas para los maestr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sarrollo un sistema de asistencia medica en los centros educativo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entrega   de 300 pesos a las madres más desfavorec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la salud se vacunaron a cientos de persona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 mejoro la Infra estructura hospitalarias y los servicios ofreci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reo un fondo 40 millones mensuales para programa de micros empresas familiares.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la agricultura apoyo para siembra de ciclo cor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creación de 700 nuevos mercados de productores de Inespr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1:20:29Z</dcterms:created>
  <dc:creator>Vista_UE v.1.2</dc:creator>
  <dc:description/>
  <dc:language>en-US</dc:language>
  <cp:lastModifiedBy>Vista_UE v.1.2</cp:lastModifiedBy>
  <dcterms:modified xsi:type="dcterms:W3CDTF">2010-12-10T00:27:55Z</dcterms:modified>
  <cp:revision>6</cp:revision>
  <dc:subject/>
  <dc:title>Gobierno de  Hipólito Mejía </dc:title>
</cp:coreProperties>
</file>